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8537-9382-46B1-86EC-45B8B1916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346F-04F5-429E-BEF9-B8822AF6B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EE1A-14C0-42EE-AE16-9A5D2B392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691F-52A3-4A73-A43E-F0D1C9EA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0400-493B-45F6-9152-C3AAE9F54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D19-DDD9-4765-B711-09C6ED16D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FC37-B874-4550-B54E-2D828952C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B122-ACF6-4A0D-BF79-CDC79BBCC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7929-3389-468C-BE05-2396D8A74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A5ADD-5057-4D3A-814F-CEB630295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89E4C-9377-4BCC-BDE6-75C892AF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53D5-8A73-4323-B023-56C2E58AB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6CE4-AAD6-40CC-BB39-E205BD77CBC1}" type="slidenum">
              <a:rPr b="0" lang="sk-SK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ok 5" descr=""/>
          <p:cNvPicPr/>
          <p:nvPr/>
        </p:nvPicPr>
        <p:blipFill>
          <a:blip r:embed="rId1"/>
          <a:srcRect l="10651" t="0" r="13428" b="0"/>
          <a:stretch/>
        </p:blipFill>
        <p:spPr>
          <a:xfrm>
            <a:off x="-9360" y="3467160"/>
            <a:ext cx="4547880" cy="3368520"/>
          </a:xfrm>
          <a:prstGeom prst="rect">
            <a:avLst/>
          </a:prstGeom>
          <a:ln w="0">
            <a:noFill/>
          </a:ln>
        </p:spPr>
      </p:pic>
      <p:pic>
        <p:nvPicPr>
          <p:cNvPr id="42" name="Obrázok 3" descr=""/>
          <p:cNvPicPr/>
          <p:nvPr/>
        </p:nvPicPr>
        <p:blipFill>
          <a:blip r:embed="rId2"/>
          <a:srcRect l="12920" t="0" r="12184" b="0"/>
          <a:stretch/>
        </p:blipFill>
        <p:spPr>
          <a:xfrm>
            <a:off x="4635360" y="3467160"/>
            <a:ext cx="4508640" cy="3386160"/>
          </a:xfrm>
          <a:prstGeom prst="rect">
            <a:avLst/>
          </a:prstGeom>
          <a:ln w="0">
            <a:noFill/>
          </a:ln>
        </p:spPr>
      </p:pic>
      <p:pic>
        <p:nvPicPr>
          <p:cNvPr id="43" name="Obrázok 2" descr=""/>
          <p:cNvPicPr/>
          <p:nvPr/>
        </p:nvPicPr>
        <p:blipFill>
          <a:blip r:embed="rId3"/>
          <a:srcRect l="827" t="0" r="24257" b="0"/>
          <a:stretch/>
        </p:blipFill>
        <p:spPr>
          <a:xfrm>
            <a:off x="4614840" y="-9360"/>
            <a:ext cx="4529160" cy="3400200"/>
          </a:xfrm>
          <a:prstGeom prst="rect">
            <a:avLst/>
          </a:prstGeom>
          <a:ln w="0">
            <a:noFill/>
          </a:ln>
        </p:spPr>
      </p:pic>
      <p:pic>
        <p:nvPicPr>
          <p:cNvPr id="44" name="Obrázok 1" descr=""/>
          <p:cNvPicPr/>
          <p:nvPr/>
        </p:nvPicPr>
        <p:blipFill>
          <a:blip r:embed="rId4"/>
          <a:srcRect l="20710" t="0" r="4215" b="0"/>
          <a:stretch/>
        </p:blipFill>
        <p:spPr>
          <a:xfrm>
            <a:off x="0" y="-9360"/>
            <a:ext cx="4538520" cy="34002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10"/>
          <p:cNvSpPr/>
          <p:nvPr/>
        </p:nvSpPr>
        <p:spPr>
          <a:xfrm>
            <a:off x="64080" y="6518160"/>
            <a:ext cx="31053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3  Pohľad z juhu na posudzovanú lokalitu variantu 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11"/>
          <p:cNvSpPr/>
          <p:nvPr/>
        </p:nvSpPr>
        <p:spPr>
          <a:xfrm>
            <a:off x="4721040" y="3097080"/>
            <a:ext cx="37119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2  Širšie územie urgentu s hlavnou budovou nemocnice Ružino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Line 101"/>
          <p:cNvSpPr/>
          <p:nvPr/>
        </p:nvSpPr>
        <p:spPr>
          <a:xfrm>
            <a:off x="-190440" y="3429000"/>
            <a:ext cx="9651960" cy="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00"/>
          <p:cNvSpPr/>
          <p:nvPr/>
        </p:nvSpPr>
        <p:spPr>
          <a:xfrm>
            <a:off x="4572000" y="-190440"/>
            <a:ext cx="0" cy="7200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2"/>
          <p:cNvSpPr/>
          <p:nvPr/>
        </p:nvSpPr>
        <p:spPr>
          <a:xfrm>
            <a:off x="4708440" y="6518160"/>
            <a:ext cx="425124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4  Pozemok pre umiestnenie konštrukcie pre vyvýšený heliport – variant 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1137240" y="779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69480" y="3097080"/>
            <a:ext cx="367380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Calibri"/>
                <a:ea typeface="Calibri"/>
              </a:rPr>
              <a:t>Foto 1  Pohľad zo severu na kontaktnú zónu s areálom 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Rovná spojovacia šípka 4"/>
          <p:cNvCxnSpPr/>
          <p:nvPr/>
        </p:nvCxnSpPr>
        <p:spPr>
          <a:xfrm>
            <a:off x="1806120" y="10616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3" name="Text Box 9"/>
          <p:cNvSpPr/>
          <p:nvPr/>
        </p:nvSpPr>
        <p:spPr>
          <a:xfrm>
            <a:off x="58320" y="148752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4694760" y="239760"/>
            <a:ext cx="1686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hlavný objekt nemocni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3612600" y="1027080"/>
            <a:ext cx="996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7122600" y="15033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7750080" y="9414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" name="Rovná spojovacia šípka 26"/>
          <p:cNvCxnSpPr/>
          <p:nvPr/>
        </p:nvCxnSpPr>
        <p:spPr>
          <a:xfrm>
            <a:off x="8741880" y="1173240"/>
            <a:ext cx="1080" cy="630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9" name="Text Box 9"/>
          <p:cNvSpPr/>
          <p:nvPr/>
        </p:nvSpPr>
        <p:spPr>
          <a:xfrm>
            <a:off x="2550600" y="4543560"/>
            <a:ext cx="57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urg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465840" y="3684600"/>
            <a:ext cx="1320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locha pre helipo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Rovná spojovacia šípka 30"/>
          <p:cNvCxnSpPr/>
          <p:nvPr/>
        </p:nvCxnSpPr>
        <p:spPr>
          <a:xfrm>
            <a:off x="1134720" y="3966840"/>
            <a:ext cx="1080" cy="63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 Box 9"/>
          <p:cNvSpPr/>
          <p:nvPr/>
        </p:nvSpPr>
        <p:spPr>
          <a:xfrm>
            <a:off x="7709400" y="4759200"/>
            <a:ext cx="143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Prevádzkové ploch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000" spc="-1" strike="noStrike">
                <a:solidFill>
                  <a:srgbClr val="ff0000"/>
                </a:solidFill>
                <a:latin typeface="Arial"/>
                <a:ea typeface="Arial"/>
              </a:rPr>
              <a:t>ZŠ V. Dzuril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1T12:28:25Z</dcterms:created>
  <dc:creator>ph</dc:creator>
  <dc:description/>
  <dc:language>en-US</dc:language>
  <cp:lastModifiedBy>peterh</cp:lastModifiedBy>
  <cp:lastPrinted>2018-08-07T07:21:11Z</cp:lastPrinted>
  <dcterms:modified xsi:type="dcterms:W3CDTF">2018-08-07T07:30:37Z</dcterms:modified>
  <cp:revision>56</cp:revision>
  <dc:subject/>
  <dc:title>Prezentace aplikace PowerPoint</dc:title>
</cp:coreProperties>
</file>