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239000" cy="10666413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48D2A-115A-43A2-B606-037832891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7A25A-C1DE-4A0E-B9A9-310C26CB6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67E9-41D8-4DA5-86B1-4A6E5C958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62332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703760" y="308124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288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62332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703760" y="6424920"/>
            <a:ext cx="198108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38C7-BD52-4E7D-8572-79176F74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A452-F82F-42DB-B1A5-1FC37A3A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A307-0D20-4D05-A8CF-32EEF0626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5FDE-520E-426D-8F02-16CD59B71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6BF9-2963-4B80-8BA7-D922803D1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42880" y="948960"/>
            <a:ext cx="6153120" cy="82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78A5B-834D-4806-9F86-B4696764F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6D74-30F6-4299-985D-1E58C6CA5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695760" y="642492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33CCF-332B-4AA4-B64A-E7398D93E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288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695760" y="3081240"/>
            <a:ext cx="300240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2880" y="6424920"/>
            <a:ext cx="6153120" cy="30531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D772E-9877-4B29-91E8-6B3A45A5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42880" y="948960"/>
            <a:ext cx="6153120" cy="1778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42880" y="3081240"/>
            <a:ext cx="6153120" cy="6400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31960" indent="-3207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9440" indent="-25560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90640" indent="-25704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303640" indent="-25740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4252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473200" y="9718560"/>
            <a:ext cx="229248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187600" y="9718560"/>
            <a:ext cx="1508040" cy="7128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4BE61-A6B5-44E0-A9BF-6B764F35296E}" type="slidenum">
              <a:rPr b="0" lang="sk-SK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026"/>
          <p:cNvSpPr/>
          <p:nvPr/>
        </p:nvSpPr>
        <p:spPr>
          <a:xfrm>
            <a:off x="1085760" y="762120"/>
            <a:ext cx="1505160" cy="9677160"/>
          </a:xfrm>
          <a:prstGeom prst="rect">
            <a:avLst/>
          </a:prstGeom>
          <a:gradFill rotWithShape="0">
            <a:gsLst>
              <a:gs pos="0">
                <a:srgbClr val="4d7676"/>
              </a:gs>
              <a:gs pos="50000">
                <a:srgbClr val="a7ffff"/>
              </a:gs>
              <a:gs pos="100000">
                <a:srgbClr val="4d767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Text Box 1028"/>
          <p:cNvSpPr/>
          <p:nvPr/>
        </p:nvSpPr>
        <p:spPr>
          <a:xfrm>
            <a:off x="2908080" y="3048120"/>
            <a:ext cx="4016880" cy="11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6400" rIns="86400" tIns="43200" bIns="43200" anchor="t">
            <a:spAutoFit/>
          </a:bodyPr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Times New Roman"/>
              </a:rPr>
              <a:t>ZÁ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podľa zákona č. 24/2006 Z.z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7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o posudzovaní vplyvov na životné prostredi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Text Box 1029"/>
          <p:cNvSpPr/>
          <p:nvPr/>
        </p:nvSpPr>
        <p:spPr>
          <a:xfrm>
            <a:off x="4545000" y="10058400"/>
            <a:ext cx="2335320" cy="3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 algn="r"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Times New Roman"/>
              </a:rPr>
              <a:t>AUGUST 20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1030"/>
          <p:cNvSpPr/>
          <p:nvPr/>
        </p:nvSpPr>
        <p:spPr>
          <a:xfrm>
            <a:off x="1981080" y="9982080"/>
            <a:ext cx="48006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1032"/>
          <p:cNvSpPr/>
          <p:nvPr/>
        </p:nvSpPr>
        <p:spPr>
          <a:xfrm>
            <a:off x="2827440" y="695160"/>
            <a:ext cx="4411440" cy="9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Stavebný objekt Heli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sk-SK" sz="2800" spc="-1" strike="noStrike">
                <a:solidFill>
                  <a:srgbClr val="0033cc"/>
                </a:solidFill>
                <a:latin typeface="Calibri"/>
                <a:ea typeface="Calibri"/>
              </a:rPr>
              <a:t>v lokalite Ružino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icture 1034" descr=""/>
          <p:cNvPicPr/>
          <p:nvPr/>
        </p:nvPicPr>
        <p:blipFill>
          <a:blip r:embed="rId1"/>
          <a:stretch/>
        </p:blipFill>
        <p:spPr>
          <a:xfrm>
            <a:off x="2895480" y="9042480"/>
            <a:ext cx="685800" cy="6667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38"/>
          <p:cNvSpPr/>
          <p:nvPr/>
        </p:nvSpPr>
        <p:spPr>
          <a:xfrm>
            <a:off x="2819520" y="7750080"/>
            <a:ext cx="3962160" cy="12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NAVRHOVATEĽ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Univerzitná nemocnica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Pažítková 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Arial"/>
              </a:rPr>
              <a:t>821 01  Bratislav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1058"/>
          <p:cNvSpPr/>
          <p:nvPr/>
        </p:nvSpPr>
        <p:spPr>
          <a:xfrm>
            <a:off x="2819520" y="8686800"/>
            <a:ext cx="3962160" cy="12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ZHOTOVITE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ENVICONSULT, spol. s r.o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Obežná 7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01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08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</a:rPr>
              <a:t>Ž</a:t>
            </a:r>
            <a:r>
              <a:rPr b="0" lang="sk-SK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ili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228600">
              <a:lnSpc>
                <a:spcPct val="3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13"/>
          <p:cNvSpPr/>
          <p:nvPr/>
        </p:nvSpPr>
        <p:spPr>
          <a:xfrm>
            <a:off x="16812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AutoShape 15"/>
          <p:cNvSpPr/>
          <p:nvPr/>
        </p:nvSpPr>
        <p:spPr>
          <a:xfrm>
            <a:off x="320760" y="-3024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15"/>
          <p:cNvSpPr/>
          <p:nvPr/>
        </p:nvSpPr>
        <p:spPr>
          <a:xfrm>
            <a:off x="473040" y="12240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17"/>
          <p:cNvSpPr/>
          <p:nvPr/>
        </p:nvSpPr>
        <p:spPr>
          <a:xfrm>
            <a:off x="625320" y="2746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19"/>
          <p:cNvSpPr/>
          <p:nvPr/>
        </p:nvSpPr>
        <p:spPr>
          <a:xfrm>
            <a:off x="168120" y="-433440"/>
            <a:ext cx="18385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Obrázok 4" descr=""/>
          <p:cNvPicPr/>
          <p:nvPr/>
        </p:nvPicPr>
        <p:blipFill>
          <a:blip r:embed="rId2"/>
          <a:srcRect l="0" t="20916" r="0" b="19627"/>
          <a:stretch/>
        </p:blipFill>
        <p:spPr>
          <a:xfrm>
            <a:off x="2841480" y="8020080"/>
            <a:ext cx="966960" cy="574560"/>
          </a:xfrm>
          <a:prstGeom prst="rect">
            <a:avLst/>
          </a:prstGeom>
          <a:ln w="0">
            <a:noFill/>
          </a:ln>
        </p:spPr>
      </p:pic>
      <p:pic>
        <p:nvPicPr>
          <p:cNvPr id="55" name="Obrázok 5" descr=""/>
          <p:cNvPicPr/>
          <p:nvPr/>
        </p:nvPicPr>
        <p:blipFill>
          <a:blip r:embed="rId3"/>
          <a:srcRect l="0" t="7225" r="0" b="9455"/>
          <a:stretch/>
        </p:blipFill>
        <p:spPr>
          <a:xfrm>
            <a:off x="426960" y="4487760"/>
            <a:ext cx="6378480" cy="29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4:21:49Z</dcterms:created>
  <dc:creator>Ivan Pirman</dc:creator>
  <dc:description/>
  <dc:language>en-US</dc:language>
  <cp:lastModifiedBy>peterh</cp:lastModifiedBy>
  <cp:lastPrinted>2018-08-07T07:21:46Z</cp:lastPrinted>
  <dcterms:modified xsi:type="dcterms:W3CDTF">2018-08-07T07:30:18Z</dcterms:modified>
  <cp:revision>82</cp:revision>
  <dc:subject/>
  <dc:title>Prezentace aplikace PowerPoint</dc:title>
</cp:coreProperties>
</file>