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6664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06E3-B011-48B9-967C-22E68AA1C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101D-0A8F-47CB-8A55-3C851C2F6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AA38-3BB9-4F31-A1A0-0B9973F61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B9F5-7829-4395-9A55-877A1ABBD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E367-E910-4018-B3BE-8CF167238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70F2-0789-4DB3-8914-6EA525221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A16F-4243-4BAF-AD4F-7E729DB72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5DE0-BBDA-45B3-8230-FA8AE964B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8960"/>
            <a:ext cx="61531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3EF8-14E4-4331-A5EA-468E13C61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ADE6-FFC9-4C1C-9A79-BD88DADF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504F-1D0A-420A-8F31-0861D7667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44AB-D750-4218-B7AE-902951098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70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18560"/>
            <a:ext cx="229248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5AE3C-3C7C-46FB-822B-39CC93574B75}" type="slidenum"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1085760" y="762120"/>
            <a:ext cx="1505160" cy="9677160"/>
          </a:xfrm>
          <a:prstGeom prst="rect">
            <a:avLst/>
          </a:prstGeom>
          <a:gradFill rotWithShape="0">
            <a:gsLst>
              <a:gs pos="0">
                <a:srgbClr val="4d7676"/>
              </a:gs>
              <a:gs pos="50000">
                <a:srgbClr val="a7ffff"/>
              </a:gs>
              <a:gs pos="100000">
                <a:srgbClr val="4d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28"/>
          <p:cNvSpPr/>
          <p:nvPr/>
        </p:nvSpPr>
        <p:spPr>
          <a:xfrm>
            <a:off x="2908080" y="3048120"/>
            <a:ext cx="40168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ZÁ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dľa zákona č. 24/2006 Z.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o posudzovaní vplyvov na životné prostred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29"/>
          <p:cNvSpPr/>
          <p:nvPr/>
        </p:nvSpPr>
        <p:spPr>
          <a:xfrm>
            <a:off x="4545000" y="10058400"/>
            <a:ext cx="2335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AUGUST 2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30"/>
          <p:cNvSpPr/>
          <p:nvPr/>
        </p:nvSpPr>
        <p:spPr>
          <a:xfrm>
            <a:off x="1981080" y="9982080"/>
            <a:ext cx="4800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2"/>
          <p:cNvSpPr/>
          <p:nvPr/>
        </p:nvSpPr>
        <p:spPr>
          <a:xfrm>
            <a:off x="2827440" y="695160"/>
            <a:ext cx="44114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Stavebný objekt Heli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v lokalite Ružin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34" descr=""/>
          <p:cNvPicPr/>
          <p:nvPr/>
        </p:nvPicPr>
        <p:blipFill>
          <a:blip r:embed="rId1"/>
          <a:stretch/>
        </p:blipFill>
        <p:spPr>
          <a:xfrm>
            <a:off x="2895480" y="9042480"/>
            <a:ext cx="685800" cy="666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8"/>
          <p:cNvSpPr/>
          <p:nvPr/>
        </p:nvSpPr>
        <p:spPr>
          <a:xfrm>
            <a:off x="2819520" y="7750080"/>
            <a:ext cx="39621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NAVRHOVATE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Univerzitná nemocnica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Pažítková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821 01 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58"/>
          <p:cNvSpPr/>
          <p:nvPr/>
        </p:nvSpPr>
        <p:spPr>
          <a:xfrm>
            <a:off x="2819520" y="8686800"/>
            <a:ext cx="39621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HOTOVITE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ENVICONSULT, spol. s r.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Obežná 7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8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l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5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7"/>
          <p:cNvSpPr/>
          <p:nvPr/>
        </p:nvSpPr>
        <p:spPr>
          <a:xfrm>
            <a:off x="625320" y="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168120" y="-433440"/>
            <a:ext cx="183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rázok 4" descr=""/>
          <p:cNvPicPr/>
          <p:nvPr/>
        </p:nvPicPr>
        <p:blipFill>
          <a:blip r:embed="rId2"/>
          <a:srcRect l="0" t="20916" r="0" b="19627"/>
          <a:stretch/>
        </p:blipFill>
        <p:spPr>
          <a:xfrm>
            <a:off x="2841480" y="8020080"/>
            <a:ext cx="966960" cy="574560"/>
          </a:xfrm>
          <a:prstGeom prst="rect">
            <a:avLst/>
          </a:prstGeom>
          <a:ln w="0">
            <a:noFill/>
          </a:ln>
        </p:spPr>
      </p:pic>
      <p:pic>
        <p:nvPicPr>
          <p:cNvPr id="55" name="Obrázok 5" descr=""/>
          <p:cNvPicPr/>
          <p:nvPr/>
        </p:nvPicPr>
        <p:blipFill>
          <a:blip r:embed="rId3"/>
          <a:srcRect l="0" t="7225" r="0" b="9455"/>
          <a:stretch/>
        </p:blipFill>
        <p:spPr>
          <a:xfrm>
            <a:off x="426960" y="4487760"/>
            <a:ext cx="63784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4:21:49Z</dcterms:created>
  <dc:creator>Ivan Pirman</dc:creator>
  <dc:description/>
  <dc:language>en-US</dc:language>
  <cp:lastModifiedBy>peterh</cp:lastModifiedBy>
  <cp:lastPrinted>2018-08-07T07:21:46Z</cp:lastPrinted>
  <dcterms:modified xsi:type="dcterms:W3CDTF">2018-08-07T07:30:18Z</dcterms:modified>
  <cp:revision>82</cp:revision>
  <dc:subject/>
  <dc:title>Prezentace aplikace PowerPoint</dc:title>
</cp:coreProperties>
</file>