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239000" cy="10666413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18A6-4D37-4AE5-9622-9952AB330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5F3F-019C-4311-A137-B21BBCB1F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66FE-F9B0-469B-BEF1-604FBDF47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2332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70376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288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2332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70376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BB9A-2171-4BB4-9DD0-7324C7662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345C-B414-422A-9E84-5B9B3A66B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4E8D-B63A-461C-B09E-23BBA8F2E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C2A8-BD3D-4E43-A26F-9DF83C152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ED92-C04C-4781-A9A5-480D49B8F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2880" y="948960"/>
            <a:ext cx="6153120" cy="82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9A11-30FD-4B70-925A-C35ABAF50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B6BC-63FB-47B1-8785-172638849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7D99-3323-4DFE-B57A-367362E31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4159-016F-4AF3-86F7-1522C0A83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31960" indent="-3207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9440" indent="-25560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90640" indent="-2570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42520" y="9718560"/>
            <a:ext cx="150804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73200" y="9718560"/>
            <a:ext cx="229248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187600" y="9718560"/>
            <a:ext cx="150804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3B74B-8979-45D8-BF9C-3D5637F545C8}" type="slidenum"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026"/>
          <p:cNvSpPr/>
          <p:nvPr/>
        </p:nvSpPr>
        <p:spPr>
          <a:xfrm>
            <a:off x="1085760" y="762120"/>
            <a:ext cx="1505160" cy="9677160"/>
          </a:xfrm>
          <a:prstGeom prst="rect">
            <a:avLst/>
          </a:prstGeom>
          <a:gradFill rotWithShape="0">
            <a:gsLst>
              <a:gs pos="0">
                <a:srgbClr val="4d7676"/>
              </a:gs>
              <a:gs pos="50000">
                <a:srgbClr val="a7ffff"/>
              </a:gs>
              <a:gs pos="100000">
                <a:srgbClr val="4d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028"/>
          <p:cNvSpPr/>
          <p:nvPr/>
        </p:nvSpPr>
        <p:spPr>
          <a:xfrm>
            <a:off x="2908080" y="3048120"/>
            <a:ext cx="4016880" cy="11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ZÁ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podľa zákona č. 24/2006 Z.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o posudzovaní vplyvov na životné prostred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029"/>
          <p:cNvSpPr/>
          <p:nvPr/>
        </p:nvSpPr>
        <p:spPr>
          <a:xfrm>
            <a:off x="4545000" y="10058400"/>
            <a:ext cx="23353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r"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AUGUST 20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1030"/>
          <p:cNvSpPr/>
          <p:nvPr/>
        </p:nvSpPr>
        <p:spPr>
          <a:xfrm>
            <a:off x="1981080" y="9982080"/>
            <a:ext cx="480060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1032"/>
          <p:cNvSpPr/>
          <p:nvPr/>
        </p:nvSpPr>
        <p:spPr>
          <a:xfrm>
            <a:off x="2827440" y="695160"/>
            <a:ext cx="441144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800" spc="-1" strike="noStrike">
                <a:solidFill>
                  <a:srgbClr val="0033cc"/>
                </a:solidFill>
                <a:latin typeface="Calibri"/>
                <a:ea typeface="Calibri"/>
              </a:rPr>
              <a:t>Stavebný objekt Heli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800" spc="-1" strike="noStrike">
                <a:solidFill>
                  <a:srgbClr val="0033cc"/>
                </a:solidFill>
                <a:latin typeface="Calibri"/>
                <a:ea typeface="Calibri"/>
              </a:rPr>
              <a:t>v lokalite Ružino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034" descr=""/>
          <p:cNvPicPr/>
          <p:nvPr/>
        </p:nvPicPr>
        <p:blipFill>
          <a:blip r:embed="rId1"/>
          <a:stretch/>
        </p:blipFill>
        <p:spPr>
          <a:xfrm>
            <a:off x="2895480" y="9042480"/>
            <a:ext cx="685800" cy="6667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038"/>
          <p:cNvSpPr/>
          <p:nvPr/>
        </p:nvSpPr>
        <p:spPr>
          <a:xfrm>
            <a:off x="2819520" y="7750080"/>
            <a:ext cx="3962160" cy="12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NAVRHOVATEĽ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Univerzitná nemocnica Bratisla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Pažítková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821 01  Bratisla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1058"/>
          <p:cNvSpPr/>
          <p:nvPr/>
        </p:nvSpPr>
        <p:spPr>
          <a:xfrm>
            <a:off x="2819520" y="8686800"/>
            <a:ext cx="396216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ZHOTOVITEĽ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ENVICONSULT, spol. s r.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Obežná 7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01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08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li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3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13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15"/>
          <p:cNvSpPr/>
          <p:nvPr/>
        </p:nvSpPr>
        <p:spPr>
          <a:xfrm>
            <a:off x="320760" y="-30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15"/>
          <p:cNvSpPr/>
          <p:nvPr/>
        </p:nvSpPr>
        <p:spPr>
          <a:xfrm>
            <a:off x="473040" y="12240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17"/>
          <p:cNvSpPr/>
          <p:nvPr/>
        </p:nvSpPr>
        <p:spPr>
          <a:xfrm>
            <a:off x="625320" y="2746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19"/>
          <p:cNvSpPr/>
          <p:nvPr/>
        </p:nvSpPr>
        <p:spPr>
          <a:xfrm>
            <a:off x="168120" y="-433440"/>
            <a:ext cx="1838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Obrázok 4" descr=""/>
          <p:cNvPicPr/>
          <p:nvPr/>
        </p:nvPicPr>
        <p:blipFill>
          <a:blip r:embed="rId2"/>
          <a:srcRect l="0" t="20916" r="0" b="19627"/>
          <a:stretch/>
        </p:blipFill>
        <p:spPr>
          <a:xfrm>
            <a:off x="2841480" y="8020080"/>
            <a:ext cx="966960" cy="574560"/>
          </a:xfrm>
          <a:prstGeom prst="rect">
            <a:avLst/>
          </a:prstGeom>
          <a:ln w="0">
            <a:noFill/>
          </a:ln>
        </p:spPr>
      </p:pic>
      <p:pic>
        <p:nvPicPr>
          <p:cNvPr id="55" name="Obrázok 5" descr=""/>
          <p:cNvPicPr/>
          <p:nvPr/>
        </p:nvPicPr>
        <p:blipFill>
          <a:blip r:embed="rId3"/>
          <a:srcRect l="0" t="7225" r="0" b="9455"/>
          <a:stretch/>
        </p:blipFill>
        <p:spPr>
          <a:xfrm>
            <a:off x="426960" y="4487760"/>
            <a:ext cx="6378480" cy="29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5T14:21:49Z</dcterms:created>
  <dc:creator>Ivan Pirman</dc:creator>
  <dc:description/>
  <dc:language>en-US</dc:language>
  <cp:lastModifiedBy>peterh</cp:lastModifiedBy>
  <cp:lastPrinted>2018-08-07T07:21:46Z</cp:lastPrinted>
  <dcterms:modified xsi:type="dcterms:W3CDTF">2018-08-07T07:30:18Z</dcterms:modified>
  <cp:revision>82</cp:revision>
  <dc:subject/>
  <dc:title>Prezentace aplikace PowerPoint</dc:title>
</cp:coreProperties>
</file>