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C408-B49C-4F47-8CA8-CDFC75EB9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0BB7-3DD9-44E2-9065-71053545E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FD81-714F-444D-8626-BA94C43ED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1865-E87E-4AA8-B737-C46B79D79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C898-A753-42CE-95DC-376E45206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E5C7-2B4D-46D7-A6A1-30F75876D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DCBA-A269-4B7B-B439-86C974682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83B5-3517-4A5E-9F8A-A2034BB17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44E4-6465-47CA-A29F-3C7B408D3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CA7B-F32C-4F14-B4F4-9756BCB40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21C8-4FDE-4792-9E04-4F50AE7E6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E802-95D6-4962-8D40-691B24F5A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A7C17-A0DA-495A-BFE2-333C5921A016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ok 5" descr=""/>
          <p:cNvPicPr/>
          <p:nvPr/>
        </p:nvPicPr>
        <p:blipFill>
          <a:blip r:embed="rId1"/>
          <a:srcRect l="10651" t="0" r="13428" b="0"/>
          <a:stretch/>
        </p:blipFill>
        <p:spPr>
          <a:xfrm>
            <a:off x="-9360" y="3467160"/>
            <a:ext cx="4547880" cy="3368520"/>
          </a:xfrm>
          <a:prstGeom prst="rect">
            <a:avLst/>
          </a:prstGeom>
          <a:ln w="0">
            <a:noFill/>
          </a:ln>
        </p:spPr>
      </p:pic>
      <p:pic>
        <p:nvPicPr>
          <p:cNvPr id="42" name="Obrázok 3" descr=""/>
          <p:cNvPicPr/>
          <p:nvPr/>
        </p:nvPicPr>
        <p:blipFill>
          <a:blip r:embed="rId2"/>
          <a:srcRect l="12920" t="0" r="12184" b="0"/>
          <a:stretch/>
        </p:blipFill>
        <p:spPr>
          <a:xfrm>
            <a:off x="4635360" y="3467160"/>
            <a:ext cx="4508640" cy="3386160"/>
          </a:xfrm>
          <a:prstGeom prst="rect">
            <a:avLst/>
          </a:prstGeom>
          <a:ln w="0">
            <a:noFill/>
          </a:ln>
        </p:spPr>
      </p:pic>
      <p:pic>
        <p:nvPicPr>
          <p:cNvPr id="43" name="Obrázok 2" descr=""/>
          <p:cNvPicPr/>
          <p:nvPr/>
        </p:nvPicPr>
        <p:blipFill>
          <a:blip r:embed="rId3"/>
          <a:srcRect l="827" t="0" r="24257" b="0"/>
          <a:stretch/>
        </p:blipFill>
        <p:spPr>
          <a:xfrm>
            <a:off x="4614840" y="-9360"/>
            <a:ext cx="4529160" cy="3400200"/>
          </a:xfrm>
          <a:prstGeom prst="rect">
            <a:avLst/>
          </a:prstGeom>
          <a:ln w="0">
            <a:noFill/>
          </a:ln>
        </p:spPr>
      </p:pic>
      <p:pic>
        <p:nvPicPr>
          <p:cNvPr id="44" name="Obrázok 1" descr=""/>
          <p:cNvPicPr/>
          <p:nvPr/>
        </p:nvPicPr>
        <p:blipFill>
          <a:blip r:embed="rId4"/>
          <a:srcRect l="20710" t="0" r="4215" b="0"/>
          <a:stretch/>
        </p:blipFill>
        <p:spPr>
          <a:xfrm>
            <a:off x="0" y="-9360"/>
            <a:ext cx="4538520" cy="34002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64080" y="6518160"/>
            <a:ext cx="3105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3  Pohľad z juhu na posudzovanú lokalitu variantu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721040" y="3097080"/>
            <a:ext cx="3711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2  Širšie územie urgentu s hlavnou budovou nemocnice Ružino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1"/>
          <p:cNvSpPr/>
          <p:nvPr/>
        </p:nvSpPr>
        <p:spPr>
          <a:xfrm>
            <a:off x="-190440" y="3429000"/>
            <a:ext cx="96519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0"/>
          <p:cNvSpPr/>
          <p:nvPr/>
        </p:nvSpPr>
        <p:spPr>
          <a:xfrm>
            <a:off x="4572000" y="-190440"/>
            <a:ext cx="0" cy="7200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4708440" y="6518160"/>
            <a:ext cx="4251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4  Pozemok pre umiestnenie konštrukcie pre vyvýšený heliport – variant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1137240" y="779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9480" y="3097080"/>
            <a:ext cx="3673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1  Pohľad zo severu na kontaktnú zónu s areálom 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Rovná spojovacia šípka 4"/>
          <p:cNvCxnSpPr/>
          <p:nvPr/>
        </p:nvCxnSpPr>
        <p:spPr>
          <a:xfrm>
            <a:off x="1806120" y="10616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3" name="Text Box 9"/>
          <p:cNvSpPr/>
          <p:nvPr/>
        </p:nvSpPr>
        <p:spPr>
          <a:xfrm>
            <a:off x="58320" y="148752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94760" y="239760"/>
            <a:ext cx="168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hlavný objekt nemocn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612600" y="1027080"/>
            <a:ext cx="99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7122600" y="15033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7750080" y="941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Rovná spojovacia šípka 26"/>
          <p:cNvCxnSpPr/>
          <p:nvPr/>
        </p:nvCxnSpPr>
        <p:spPr>
          <a:xfrm>
            <a:off x="8741880" y="1173240"/>
            <a:ext cx="1080" cy="630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9" name="Text Box 9"/>
          <p:cNvSpPr/>
          <p:nvPr/>
        </p:nvSpPr>
        <p:spPr>
          <a:xfrm>
            <a:off x="2550600" y="45435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65840" y="36846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Rovná spojovacia šípka 30"/>
          <p:cNvCxnSpPr/>
          <p:nvPr/>
        </p:nvCxnSpPr>
        <p:spPr>
          <a:xfrm>
            <a:off x="1134720" y="39668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" name="Text Box 9"/>
          <p:cNvSpPr/>
          <p:nvPr/>
        </p:nvSpPr>
        <p:spPr>
          <a:xfrm>
            <a:off x="7709400" y="4759200"/>
            <a:ext cx="143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revádzkové ploch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2:28:25Z</dcterms:created>
  <dc:creator>ph</dc:creator>
  <dc:description/>
  <dc:language>en-US</dc:language>
  <cp:lastModifiedBy>peterh</cp:lastModifiedBy>
  <cp:lastPrinted>2018-08-07T07:21:11Z</cp:lastPrinted>
  <dcterms:modified xsi:type="dcterms:W3CDTF">2018-08-07T07:30:37Z</dcterms:modified>
  <cp:revision>56</cp:revision>
  <dc:subject/>
  <dc:title>Prezentace aplikace PowerPoint</dc:title>
</cp:coreProperties>
</file>